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3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062-284E-4493-8D92-087B37BE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C21-F4AC-4F8C-89BE-878CA2CE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68F-6688-4877-BD52-DE77E1A6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C32-5A44-48B5-B08C-B40C6AFB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D725-10F4-45FD-8605-2C366BCC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42BE-4C38-4395-8DBE-22704B64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154-8764-4C41-8D2C-B1F5DB7E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5198-712E-4F59-989F-32972FD9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BF03-12CF-4BD5-A207-021752C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263F-EFF2-4CFF-B574-6896304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5914-619D-49D4-BCB0-71349F8E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333-5AB4-41F1-A947-9EFDABF9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5E9A-52B1-431F-B162-163BA13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27A0-119A-4324-834F-7D12F99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DF40-70B5-4005-971D-4F8ADEC5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FA85-7E41-42F3-BA30-7E9374C7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5080-844A-45C8-ADF3-0822E8B0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AC3-65FE-4B87-856D-B99029A6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EE1-951D-4FA1-9346-15F3B655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2CD-2994-45D2-9682-270C0432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E43-CD30-4EE8-8C34-C52D9CE7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0EF-B99B-4002-BEF2-35083A8E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8F5-33B2-461E-A395-C991D30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0A1-AA3C-4DB8-8029-92844C1D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6A84-5925-479A-9676-4A7A8F1E4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D847-E961-4A1F-A59A-8ADB4566E51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32000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Order of         Operation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66680" y="3886200"/>
          <a:ext cx="52754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52754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60360" y="380880"/>
          <a:ext cx="5112000" cy="26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360" y="380880"/>
                    <a:ext cx="51120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90720" y="4495680"/>
          <a:ext cx="66769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95680"/>
                    <a:ext cx="66769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371600" y="1143000"/>
          <a:ext cx="601992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143000"/>
                    <a:ext cx="60199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85920" y="3683160"/>
          <a:ext cx="428616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683160"/>
                    <a:ext cx="428616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71560" y="4680"/>
          <a:ext cx="61009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4680"/>
                    <a:ext cx="61009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4267080"/>
          <a:ext cx="684072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267080"/>
                    <a:ext cx="684072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981080" y="838080"/>
          <a:ext cx="461808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838080"/>
                    <a:ext cx="46180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371600" y="762120"/>
          <a:ext cx="479592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47959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420920" y="254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3809880"/>
          <a:ext cx="47977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809880"/>
                    <a:ext cx="47977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30400" y="487440"/>
          <a:ext cx="247320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487440"/>
                    <a:ext cx="24732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38280" y="3884760"/>
          <a:ext cx="362736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8280" y="3884760"/>
                    <a:ext cx="36273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685800" y="3809880"/>
          <a:ext cx="5187960" cy="10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9880"/>
                    <a:ext cx="518796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143000" y="609480"/>
          <a:ext cx="354636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609480"/>
                    <a:ext cx="35463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3886200"/>
          <a:ext cx="51102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86200"/>
                    <a:ext cx="51102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01640" y="376200"/>
          <a:ext cx="560700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76200"/>
                    <a:ext cx="56070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90560" y="4535640"/>
          <a:ext cx="527544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4535640"/>
                    <a:ext cx="52754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12920" y="374760"/>
          <a:ext cx="618480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920" y="374760"/>
                    <a:ext cx="618480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61596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6159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96920" y="609480"/>
          <a:ext cx="544212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6920" y="609480"/>
                    <a:ext cx="5442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30040" y="4384800"/>
          <a:ext cx="758196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384800"/>
                    <a:ext cx="75819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28480" y="919080"/>
          <a:ext cx="610092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919080"/>
                    <a:ext cx="6100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7400" y="69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4114800"/>
          <a:ext cx="749952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749952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79480" y="76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80880" y="1143000"/>
          <a:ext cx="742176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43000"/>
                    <a:ext cx="74217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13:41Z</dcterms:created>
  <dc:creator>PA Department of Education</dc:creator>
  <dc:description/>
  <dc:language>en-US</dc:language>
  <cp:lastModifiedBy>Parkland High School</cp:lastModifiedBy>
  <dcterms:modified xsi:type="dcterms:W3CDTF">2010-09-07T17:06:34Z</dcterms:modified>
  <cp:revision>25</cp:revision>
  <dc:subject/>
  <dc:title>Language of Algebra </dc:title>
</cp:coreProperties>
</file>